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62C-F85A-40FB-BF56-ACEFF9F5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436-ADE9-4BB6-AC2E-CA93B85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0EA1-98D2-49AD-A38C-CE83238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5B97A-286C-49C5-A6FF-15155793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9E520-9E9C-43B5-87B7-93C1B18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388B1-2B43-4C6E-AEB4-6D80706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9C256-DB99-41D1-8761-73C91F5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D402D-3F84-463D-B2EC-21EE286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BC8D3-E975-4918-868E-0F7076C1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AAFB7-63B7-4EAB-B0B6-6E8291F6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7B99-AF5D-43CC-ACD8-701C3CC5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CC070-C245-4AB7-84F8-3CA86441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0C7-ED0B-4C70-8FEF-6269DDE6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6E846-C784-4082-AB3D-AAC09004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BB85C-7480-4F71-B63C-D8C11CB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D74F6-C38D-465B-ADFB-558B6BB1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76080-AB27-4738-9F27-F60C1CC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8AF72-E006-453B-AB51-7408624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8477D-CBA0-4429-8F6B-227FCD3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12E7A-5FF3-454F-BA37-96F52D57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568F7-C561-4885-9156-06DC9C7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A52CC-DA8C-4CF2-8B1A-25C977DD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B976D-FB98-44D6-80F0-DBBC5447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479-4107-4F18-A4A8-4668E40B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D822A-4B4C-4303-8414-4C04360B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CC617-013D-4AEE-8DE6-36EE9CD4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D4D74-EA17-4476-9AC0-1CA6BCF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33BC5-B31F-4019-9F2C-7BD126EB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B00BC-261D-4072-9413-280135B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849F4-24E1-49DF-8A16-F15A717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8608-2046-49F3-8C54-84750799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159ED-F09A-43F9-9EF2-D2C4DA7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4F919-DFE5-4952-8185-7D0A787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B7A73-DFC9-4BC1-906E-8BB413AE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F3D1-8298-442C-B340-1BD3CB2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7AB7-C7EE-44BC-B09B-FE6483F2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2C4F7-EF60-47C8-8067-474CAE9C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6DFF2-B5DB-45A3-9DD7-03A10B33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7CF54-62AF-4E12-AC5E-3AEB56CC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07FF7-6830-4487-AED2-B698630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C30DE-41CA-47D1-BDCC-3C466E7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D2D6B-EB48-453B-ADBD-CF212312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F91A2-5CFB-480C-B370-C3045D3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AB74A-7D5B-461E-B9FB-7845F75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D20D6-5B91-4844-8564-7DA39F62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8055-26F9-45A3-8F2F-EC30ED3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61A0D-57B0-4A1C-9118-4AC767B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C0FEA-2271-4155-B1B4-8A1B25A2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9B8D8-8C79-4C12-9AE8-B6EFA652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68993-1620-4AD9-A5DE-C35037B7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BCBEE-C891-4AB5-B805-FB5CE301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433-EABD-47B2-8082-6206992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B51D-052F-4D59-9892-157443BF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CCD-20DB-440F-842D-4130907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6C5B-7D04-4E65-8C36-B55C4A2D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73FE-1DB8-49D4-924A-FFB2881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F71-DAAC-4BA9-8A48-D36B4D3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1118-19D5-4AB2-95F8-35C203E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F10F-DF22-4659-B4E5-352C79D4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AE4-EF98-4E65-9114-BAA30D28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48D-764C-4FC1-B680-EA3CF59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B1E6-8BFE-466B-B103-FCDA071A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D95F-56C9-4E34-AD4A-66CAE86C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8C17-4B52-4203-9C0B-477A3B4C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1C7E-FACE-4B86-A50D-6E5431B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2259-8B0F-43E7-8B41-3325272E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5618-57EA-4AAD-B0CE-AC8FB8E3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DF4-9885-49E0-9C25-D513B868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6670-2843-425D-81C7-BF010D42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CAE0-B524-416A-88F0-1370919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A932-87CD-4CDD-9402-C7D8CDA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025C-AEE6-4DE3-BAB3-6182E22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2254-C224-4460-ACAD-11EAEBDD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E827-3728-4332-B7FD-9B324647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AE8C-806F-4F2F-BD09-C6FEC36E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3081-35FA-4835-A083-653216F0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2476-0CF4-402E-871A-DEE67F49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9B02-07AC-4FE3-B2E4-0EF6C56A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606-D57C-4132-AEDB-A3010233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F6B0-6817-426F-AF86-99E3C5E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5C1A-1ABB-48EC-89E2-FD367BD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4AD1-AE26-42D7-89FA-5D32BCA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D940-C342-4BA6-946F-F2EF0D1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8FA4-C9D2-46BD-9CC7-23E7487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5671-66FD-4402-942B-D9E69C7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A2E7-E3BA-4CE0-A37C-9F608E3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9CA7-C550-44A1-8D8E-D8331903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E98F4-DE42-4D4D-B2A0-19D0E70E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1044-B82F-402B-AE42-D9F10D2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F0E-A77E-4C8F-8E7E-47371DA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B88A-74BC-4EF5-A901-DF111833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425D-A93B-4278-86DF-F592690F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7112-6292-44C6-8AF5-B117573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697E-BEFF-427D-9AD3-8E75DFFB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CE9A-91F5-4AFB-AF59-99CD32E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44CB-D9C2-4654-AFD3-8C297C0D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CAA5B-1909-4D7C-9006-9E9231D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99F4-3698-4A89-B7A8-E741F9C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49EF-1365-41D4-8A50-A05570D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0F880-D46F-4E35-A185-8F9E9ABA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23F-D251-4A45-970D-0219001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0332-6406-42AA-AB5A-0FA9722B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32565-03C1-457B-9318-1C802C93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E7F6-86BA-4C99-AA4F-8D8F3391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3F933-8273-4F41-A800-B986BC92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64B0-434C-4F0F-9F7C-451502D1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204A-1D48-4535-93B8-E2F8A37F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D3F95-7A11-4161-9624-92CD8BA4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9DC9-5F0E-41EE-A0B2-3EF5361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F653-B74C-4490-878D-326952BB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95E1-CA28-4C09-84C0-CC32EA6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612-7A35-4C62-8619-965E746B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554B2-A9E6-4D22-8B69-7B2E2D3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0CEC-6193-457E-AF86-5E5C5EC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F8D2-13FA-4492-A41F-C6392C12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D24D-1D4F-4DB7-92E4-E8BD75CD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96F98-4C75-4E37-A3C0-6F1AD6CE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D521-BF57-4C36-8FC2-5A164B0C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46452-206E-407A-9A07-284A5B0C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D5327-5586-4475-884F-457E0261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B7EF-9C61-44E7-9B10-3B7E24B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CCA1-9A21-490C-AE21-DCD98DBB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D81-B567-415C-AADD-ABB5B83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D4ACB-436B-4B60-8239-EB4660E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8ABCD-10DD-4B3E-9287-B946E5E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FC75C-9CD9-4648-B033-38ECA96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2307-0216-41FD-A3EC-479D6FE7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A94E9-B041-404D-8FE6-771D18DD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9D6C8-AE23-4BEA-A708-D25CF7D7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896CD-FC3B-411E-B599-35CEBC64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4B1BD-5004-4CB6-A55C-2DD172AA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D88BF-C51F-4F62-89A6-0A0D2D2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EF2B7-095B-4569-8EB9-990F901D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869-5952-45BF-9A3F-18E299C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3C75-5D2F-4EEA-8AAA-E879021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C2E9C-4119-4D83-908D-705F880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2DC8C-6C72-4913-9B69-953CE63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9091B-B4FF-4659-B5D5-C4405C5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D507-AF0F-49E1-A345-781655A3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5245-DD89-4A17-963F-3F013301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C8C9F-2D87-4489-9AC3-ECA2B50D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F36C7-104A-4CDD-8804-632E96B2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52E0-52D3-493A-95C7-11A58F5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EC7F0-D092-46CB-8AB3-A06D785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BEB8-A805-44E9-8B48-BB55D3F120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E577-FFAE-4F5E-A501-D7F3F79856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2925-6FC1-47BB-BC32-0DDD27A86C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E80B-33F8-4B63-A2B3-2F5A5E99E8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B4B7-2468-4756-B879-FEFFFF5453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87C-444A-49DF-AFA5-646D94A483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CBAD-F2E5-4A4C-BD71-8C7A6B355A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6BB-865E-4E2F-B16B-E416616B6D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5316-C94B-4406-B26D-7ECFE79210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6EF-1B2B-4B23-B253-9229CEC301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943-7BCB-4DE6-B18F-7BB65CB721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712F-D24B-4673-AE9A-8512ADCCEB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8 Pánov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k nám zaví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ov deň k nám zaví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bies pokoj do sŕdc vli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zdroju živej vody z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ve nás Bož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sľubom je nových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c hriech z raja vyhnal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dzvesťou tej rad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nám Pán dá z 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blažuje v 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tiu dáva nový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statým síl obnov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údiacich zve k domov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koľvek chce, prijať s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tcovské to pozvan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ráť sa domov, dieťa vr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d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 pokoj chcem ti d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47:44Z</dcterms:modified>
  <cp:revision>23</cp:revision>
  <dc:subject/>
  <dc:title>Je veľký náš Pán, on slávy je Kráľ Nech do všetkých strán  spev vrúcnych znie chvál.</dc:title>
</cp:coreProperties>
</file>